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3EF1-C3DC-4893-B1BA-B0242DBA3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FCC-9577-4C7C-A931-7D371C6C2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836A-580C-450D-B1D9-0836B2508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EE80-2DE6-427B-882B-050FB43AD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3B3B-4873-4CCE-B66D-9928F84F4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A53-9EAD-4D9F-AB8A-E4A5111DC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B937-9B2F-48AE-9EB1-17A0DF475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E76-9F2E-43A5-BFE9-1377C3F55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E90-2A13-458E-BC7F-CF3D58BA1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CA5-F23B-4EBE-86E2-26B3C3951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09E-DE1C-4385-B9BD-CF656B53D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6FB-AE43-4FB2-84BE-DBFFA8E93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FD1-0C78-425A-9212-C066450D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564-5401-4F23-A293-50B23FA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907-D283-46F0-9A5F-91F00C7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EC8-696D-40DB-BF51-6A037D7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231-1B4B-4E30-8715-33101768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F7DE-CF2D-4071-BF18-B6843B08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E0AB-E67E-4979-97BF-091317E4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B56-A70C-4158-9E55-470B8940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D038-7C22-4EA1-8EAE-F433FC73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DD1-ACAE-4A85-98AD-6D5586C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56BC-C518-44CB-8E4C-2856CF5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4AA1-0356-4419-AC8E-E0C812F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BB6-E02E-4A6E-AAAE-B0724B57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54D1-ED75-4806-A350-FBFB479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8DA-2EDF-4AAF-A965-118C679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6CE-EBA8-409C-B6D4-066501A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BC83-EA4A-4E89-8C14-3E30CA9E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09E-FD00-4CB1-9900-64B8FB0D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58F59-26A7-443E-9417-F3C84F44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7B635-6436-4424-AB6E-F290B10C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D4528-40FF-4A1E-A49D-0A3C407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04E58-26FE-4684-B251-BA2BEEFF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ADC58-F573-4BB2-A0B5-BE66991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213-D54C-4784-85C4-8C17EA3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AC5F0-E23C-4876-BEB9-58D683F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77282-6963-4C75-881D-0E49853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9C8D2-38C5-49AC-B28E-8DD81EA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8F17F-4EF8-4911-BEEF-22363D4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24636-C688-42CA-B4E4-62CABF53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3DC5E-ED2B-428F-A5DB-298A189C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819F8-DF5F-4EEB-9144-9325F2F6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7A3FF-1A4A-4FEE-B19C-2CB16000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6B2C5-B37D-4CD7-94FC-88EF343E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31B6B-57A0-4B44-ADE2-655A01D0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B1B-D626-4E44-876E-6ABBF567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4E953-7DA2-43B5-8D00-CEC50DD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09C5E-C77A-4619-8AFF-8DF18D44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BA41A-3D12-408D-9D83-1F52F0AA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529AB-D99E-4F4C-B218-5BCEAB4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904D6-C266-46D7-9120-734DD6C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60533-6442-462A-87E7-4C3C4F3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8F95B-1DDD-4AEE-84AF-061E5F1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28066-7DC3-42D6-8051-58F577D8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C4F6B-1F92-4313-95CB-AF2D7531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2994F-B66A-49D1-B65C-E46C5A13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90D-037B-49F0-9F3A-8DD276A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3FF1A-83E7-46DB-902A-5874537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2F98C-7B59-4EB1-A9AB-47E9CA73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849EA-9487-4858-9C92-2DCF166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BFD23-23E8-453A-9C50-EDD26B2E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7CAF1-9FD1-4FF4-BFC7-9CA4C375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7001C-000F-470A-9381-C538482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A139C-D5D6-4A03-AD14-476C155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CC536-2178-4F71-80A2-8B42EFB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68D46-F005-4018-B6C7-719C41FE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50E91-3F76-4784-97E8-1836200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F44-0385-4907-927A-A61450C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F4B31-2AE3-4E8E-80C4-BE7DDD76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E12A1-EA9A-4053-9A29-3CBFCDA1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4B0BB-81A7-42CD-A54A-9F6DD1B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2D97-7E50-41BD-8FA5-68783278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B332A-5F2F-4764-9C26-83444DE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22F6-183A-455D-AC1C-56D8B08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4940-847D-4455-B7E6-CA520FA0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0C3F-4F00-4D4F-A99D-E79D597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3FAF-873F-46B0-81DE-86FD769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76DA-1D5C-48BF-8011-0AEC296F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832-71CD-4C5D-9E39-F34C88A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8CD28-72EC-47DE-92A1-2A1E18F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4031-3CF9-46ED-B54D-5825357F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80B6-E490-41C4-BCA7-DE1A56CF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EA739-918D-4461-B84B-8DBDA814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CF514-2291-4518-B7C8-D7613024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61E9B-5343-4002-A8CD-514F345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65A3C-09CF-4EDC-9A9F-38E37A7F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88514-A3BD-4374-ACF3-173B6ACF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184B6-CA79-4F42-8D54-AD5C67B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4520C-371A-4E48-A563-FEE4F7B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851-EA11-4A24-9D9C-3302F74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48A09-B51A-4B92-8D1E-32F3878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53AFA-3723-4BFF-81C5-7AF5B8F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B106C-229B-4E34-B433-6D565C8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7CA5A-873F-43E7-AB47-77923334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D5337-E183-4583-A9D8-78374398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38CCB-A08F-4EA7-839C-59B13318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3EE06-E6BD-4EC0-8A2C-1994977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B69B-47F2-4289-8026-6339DA9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C728-C0BF-44CA-971C-3EA5606C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FE7B5-D83A-4EC6-A5C8-653D4DFF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1CA-900B-4039-BB71-5EC5917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AD228-94E2-45C1-AB7D-825DA02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599D-BFC8-45A1-8A19-4329436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C937-137E-4553-AC93-6C27D1F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3593B-85D3-4610-8B8F-527092B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2D87-3A74-43A5-B0C7-D07DFA2E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51D6-3F2E-4E09-BDD5-94431EB9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07FCB-0AB0-41BF-A700-216C7797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5F27-7C76-4B8E-9762-6C781346782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03E6-4791-4C02-9C25-6962919F506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47F-CF59-4294-830C-3BA6636957F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793-8EC1-4DC8-BEE3-22F11FA225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6A0-9274-4517-9160-08E8DF3A0DE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AC8-7758-40EF-A48F-7D16D6EE3AE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785-65A9-4A58-9514-70DF116F356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09A0-AB3F-401A-8309-3AB0BED072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hyperlink" Target="http://stephenslighthouse.sirsidynix.com/archives/2009/02/measuring_libra.html" TargetMode="External"/><Relationship Id="rId3" Type="http://schemas.openxmlformats.org/officeDocument/2006/relationships/hyperlink" Target="http://stephenslighthouse.sirsidynix.com/archives/2009/02/measuring_libra.html" TargetMode="External"/><Relationship Id="rId4" Type="http://schemas.openxmlformats.org/officeDocument/2006/relationships/hyperlink" Target="http://stephenslighthouse.sirsidynix.com/archives/2009/02/measuring_libra.html" TargetMode="External"/><Relationship Id="rId5" Type="http://schemas.openxmlformats.org/officeDocument/2006/relationships/hyperlink" Target="http://stephenslighthouse.sirsidynix.com/archives/2009/02/measuring_libra.html" TargetMode="External"/><Relationship Id="rId6" Type="http://schemas.openxmlformats.org/officeDocument/2006/relationships/hyperlink" Target="http://www.libraryjournal.com/article/CA6625166.html" TargetMode="External"/><Relationship Id="rId7" Type="http://schemas.openxmlformats.org/officeDocument/2006/relationships/hyperlink" Target="http://www.libraryjournal.com/article/CA6625166.html" TargetMode="External"/><Relationship Id="rId8" Type="http://schemas.openxmlformats.org/officeDocument/2006/relationships/hyperlink" Target="http://www.libraryjournal.com/article/CA6625166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4120" y="160020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1040" indent="-31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ram, S. (2009, February 23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asuring libraries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ephen's Lighthouse [Blog]. Retrieved July 2, 2009 from 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//stephenslighthouse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sirsidynix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com/archives/2009/02/measuring_libra.html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9, January). SirsiDynix Adds Chilifresh Engine. Library Journal, 2009 (issue 1). Retrieved June 30, 2009, from 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libraryjournal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.com/article/CA6625166.html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8, October 15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irector's station for usage sta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Library Journal. Retrieved July 2, 2009, from http://www.libraryjournal.com/article/CA6602837.html?industryid=47125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rsiDynix. (2007, June 23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rsiDynix introduces SirsiDynix Symphony as new integrated library system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etrieved July 2, 2009, from Library Technology Guides: http://www.librarytechnology.org/ltg-displayarticle.pl?RC=12619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rsiDynix (2008, December 2). SirsiDynix StaffWeb brochure. Retrieved July 6, 2009, from www.sirsidynix.com/Resources/Pdfs/Solutions/Products/StaffWeb.pdf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Text Placeholder 12" descr=""/>
          <p:cNvPicPr/>
          <p:nvPr/>
        </p:nvPicPr>
        <p:blipFill>
          <a:blip r:embed="rId1"/>
          <a:srcRect l="619799" t="233557" r="0" b="386913"/>
          <a:stretch/>
        </p:blipFill>
        <p:spPr>
          <a:xfrm>
            <a:off x="380880" y="2057400"/>
            <a:ext cx="41911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Jamie Fleming</cp:lastModifiedBy>
  <dcterms:modified xsi:type="dcterms:W3CDTF">2009-07-09T03:57:34Z</dcterms:modified>
  <cp:revision>14</cp:revision>
  <dc:subject/>
  <dc:title>Slide 1</dc:title>
</cp:coreProperties>
</file>